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jetflyby.wav" ContentType="audio/x-wav"/>
  <Override PartName="/ppt/media/caralarmoff.wav" ContentType="audio/x-wav"/>
  <Override PartName="/ppt/media/CHIMES.WAV" ContentType="audio/x-wav"/>
  <Override PartName="/ppt/media/highchime.wav" ContentType="audio/x-wav"/>
  <Override PartName="/ppt/media/GUNSHOT.WAV" ContentType="audio/x-wav"/>
  <Override PartName="/ppt/media/zipdn102.wav" ContentType="audio/x-wav"/>
  <Override PartName="/ppt/media/zapbig0g.wav" ContentType="audio/x-wav"/>
  <Override PartName="/ppt/media/zapvib04.wav" ContentType="audio/x-wav"/>
  <Override PartName="/ppt/media/LASER.WAV" ContentType="audio/x-wav"/>
  <Override PartName="/ppt/media/helicopt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0C2-FFC6-4D55-88DB-48EF536A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B18-B793-4B69-98ED-4A36ADD5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AB5-8AE3-42EE-83D4-E08FF83D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C35-7D43-48F8-90B3-59FE9E04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CAF-48E1-43A3-A335-D9255F98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F92-5B50-425A-A9D6-684EA968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20C-0433-45DC-9C35-3FBAB360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807-D265-46DF-9B68-DF3E7132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3B0-ED79-4EFB-978B-9604D1EF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9D4-5828-48C7-B10C-3DFBC3FB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C92-DF2D-4766-B592-E5ED3CB6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5F9-33B6-4C97-8109-3DE5B2C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FC97-74F9-4375-94EF-CFA7716BF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zapvib04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elicopter.wav"/><Relationship Id="rId2" Type="http://schemas.openxmlformats.org/officeDocument/2006/relationships/audio" Target="../media/jetflyby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WHOOSH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jetflyby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jetflyby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jetflyby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zapbig0g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600200"/>
            <a:ext cx="4267080" cy="1953000"/>
            <a:chOff x="990720" y="1600200"/>
            <a:chExt cx="4267080" cy="1953000"/>
          </a:xfrm>
        </p:grpSpPr>
        <p:sp>
          <p:nvSpPr>
            <p:cNvPr id="44" name=""/>
            <p:cNvSpPr/>
            <p:nvPr/>
          </p:nvSpPr>
          <p:spPr>
            <a:xfrm>
              <a:off x="990720" y="1600200"/>
              <a:ext cx="4267080" cy="1447920"/>
            </a:xfrm>
            <a:prstGeom prst="parallelogram">
              <a:avLst>
                <a:gd name="adj" fmla="val 73676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1800" y="16002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2819520"/>
              <a:ext cx="228600" cy="2286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1981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0" y="29718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876920" y="1828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Times New Roman"/>
              </a:rPr>
              <a:t>A = </a:t>
            </a:r>
            <a:r>
              <a:rPr b="1" i="1" lang="en-US" sz="5400" spc="-1" strike="noStrike">
                <a:solidFill>
                  <a:srgbClr val="993300"/>
                </a:solidFill>
                <a:latin typeface="Times New Roman"/>
              </a:rPr>
              <a:t>b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3505320"/>
            <a:ext cx="5943600" cy="2562480"/>
            <a:chOff x="0" y="3505320"/>
            <a:chExt cx="5943600" cy="2562480"/>
          </a:xfrm>
        </p:grpSpPr>
        <p:sp>
          <p:nvSpPr>
            <p:cNvPr id="51" name=""/>
            <p:cNvSpPr/>
            <p:nvPr/>
          </p:nvSpPr>
          <p:spPr>
            <a:xfrm>
              <a:off x="0" y="3505320"/>
              <a:ext cx="510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3657600"/>
              <a:ext cx="3657600" cy="1828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19320" y="54864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41911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50 c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343400" y="47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5053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4(1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44197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6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45120" y="268776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5(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72200" y="3444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40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65160" y="1903320"/>
            <a:ext cx="3414600" cy="3540240"/>
          </a:xfrm>
          <a:prstGeom prst="parallelogram">
            <a:avLst>
              <a:gd name="adj" fmla="val 24625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600000">
            <a:off x="1096920" y="479592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600000">
            <a:off x="1714680" y="4650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27320" y="329256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74600" y="5005440"/>
            <a:ext cx="2482920" cy="39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70120" y="132552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0800" y="4545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0(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52592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00 in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5160" y="1903320"/>
            <a:ext cx="4154400" cy="3540240"/>
          </a:xfrm>
          <a:prstGeom prst="parallelogram">
            <a:avLst>
              <a:gd name="adj" fmla="val 28897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1680" y="33368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0120" y="132552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16240" y="1919160"/>
            <a:ext cx="0" cy="3527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5840" y="52164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13000" y="32194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19280"/>
            <a:ext cx="8359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 Find the area of the parallelogram with base length 3 m and height 50 c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86080" y="33847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00(5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6160" y="418608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5,000 c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9080" y="16876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30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1066680"/>
            <a:ext cx="7619400" cy="1447920"/>
            <a:chOff x="533520" y="1066680"/>
            <a:chExt cx="7619400" cy="1447920"/>
          </a:xfrm>
        </p:grpSpPr>
        <p:sp>
          <p:nvSpPr>
            <p:cNvPr id="60" name=""/>
            <p:cNvSpPr/>
            <p:nvPr/>
          </p:nvSpPr>
          <p:spPr>
            <a:xfrm>
              <a:off x="533520" y="167616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160" y="1600200"/>
              <a:ext cx="6171840" cy="914400"/>
            </a:xfrm>
            <a:prstGeom prst="parallelogram">
              <a:avLst>
                <a:gd name="adj" fmla="val 168740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5840" y="1600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9880" y="175248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5840" y="2286000"/>
              <a:ext cx="228240" cy="228600"/>
            </a:xfrm>
            <a:prstGeom prst="rect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040" y="10666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3960" y="1828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981080" y="2819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2 ( 8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5812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6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Find the area of the shaded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523880"/>
            <a:ext cx="7543800" cy="3581280"/>
            <a:chOff x="838080" y="1523880"/>
            <a:chExt cx="7543800" cy="3581280"/>
          </a:xfrm>
        </p:grpSpPr>
        <p:grpSp>
          <p:nvGrpSpPr>
            <p:cNvPr id="72" name=""/>
            <p:cNvGrpSpPr/>
            <p:nvPr/>
          </p:nvGrpSpPr>
          <p:grpSpPr>
            <a:xfrm>
              <a:off x="838080" y="1523880"/>
              <a:ext cx="7543800" cy="3581280"/>
              <a:chOff x="838080" y="1523880"/>
              <a:chExt cx="7543800" cy="3581280"/>
            </a:xfrm>
          </p:grpSpPr>
          <p:sp>
            <p:nvSpPr>
              <p:cNvPr id="73" name=""/>
              <p:cNvSpPr/>
              <p:nvPr/>
            </p:nvSpPr>
            <p:spPr>
              <a:xfrm>
                <a:off x="5486040" y="3276360"/>
                <a:ext cx="198144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90360" y="3200400"/>
                <a:ext cx="2438280" cy="106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38080" y="1523880"/>
                <a:ext cx="7543800" cy="3581280"/>
                <a:chOff x="838080" y="1523880"/>
                <a:chExt cx="7543800" cy="3581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990360" y="2057400"/>
                  <a:ext cx="6477120" cy="2209680"/>
                </a:xfrm>
                <a:prstGeom prst="rect">
                  <a:avLst/>
                </a:prstGeom>
                <a:solidFill>
                  <a:srgbClr val="00cc99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86040" y="3276360"/>
                  <a:ext cx="2590920" cy="175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38080" y="3200400"/>
                  <a:ext cx="2590560" cy="19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38280" y="1523880"/>
                  <a:ext cx="3809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171840" y="312408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4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676160" y="3124080"/>
                  <a:ext cx="106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5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590560" y="3429000"/>
                  <a:ext cx="106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257440" y="342900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314840" y="228600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"/>
            <p:cNvSpPr/>
            <p:nvPr/>
          </p:nvSpPr>
          <p:spPr>
            <a:xfrm>
              <a:off x="990720" y="320040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9000" y="32004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486400" y="327636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90720" y="2057400"/>
            <a:ext cx="243828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057400"/>
            <a:ext cx="19810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057400"/>
            <a:ext cx="2057400" cy="2209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191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343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2 (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89" idx="1"/>
            <a:endCxn id="95" idx="1"/>
          </p:cNvCxnSpPr>
          <p:nvPr/>
        </p:nvCxnSpPr>
        <p:spPr>
          <a:xfrm flipV="1" rot="10800000">
            <a:off x="761400" y="2628000"/>
            <a:ext cx="229320" cy="20660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762120" y="502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343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2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1" idx="3"/>
            <a:endCxn id="98" idx="3"/>
          </p:cNvCxnSpPr>
          <p:nvPr/>
        </p:nvCxnSpPr>
        <p:spPr>
          <a:xfrm>
            <a:off x="7467480" y="2666880"/>
            <a:ext cx="153360" cy="2028240"/>
          </a:xfrm>
          <a:prstGeom prst="curvedConnector5">
            <a:avLst>
              <a:gd name="adj1" fmla="val 249882"/>
              <a:gd name="adj2" fmla="val 49991"/>
              <a:gd name="adj3" fmla="val 2498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562720" y="502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724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3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2" idx="1"/>
            <a:endCxn id="101" idx="1"/>
          </p:cNvCxnSpPr>
          <p:nvPr/>
        </p:nvCxnSpPr>
        <p:spPr>
          <a:xfrm flipV="1" rot="10800000">
            <a:off x="3276000" y="3161880"/>
            <a:ext cx="153000" cy="1913760"/>
          </a:xfrm>
          <a:prstGeom prst="curvedConnector5">
            <a:avLst>
              <a:gd name="adj1" fmla="val 250000"/>
              <a:gd name="adj2" fmla="val 49990"/>
              <a:gd name="adj3" fmla="val 2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276720" y="5257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8672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12 + 10 +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5867280"/>
            <a:ext cx="3733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= 30 ft</a:t>
            </a:r>
            <a:r>
              <a:rPr b="1" lang="en-US" sz="3600" spc="-1" strike="noStrike" baseline="6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752480"/>
            <a:ext cx="2209680" cy="33530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895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219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9520" y="2587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9(1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43560" y="3502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35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4800600"/>
            <a:ext cx="304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0060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6320" y="117144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73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52480"/>
            <a:ext cx="2863800" cy="25592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91000" y="2781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219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89560" y="2587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13240" y="35020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57560" y="391464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9132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57560" y="176688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2000" y="115884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79640" y="3530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50(2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21120" y="4286160"/>
            <a:ext cx="33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,000 c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1933560"/>
            <a:ext cx="5852880" cy="1176480"/>
          </a:xfrm>
          <a:prstGeom prst="parallelogram">
            <a:avLst>
              <a:gd name="adj" fmla="val 8123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57840" y="1933560"/>
            <a:ext cx="0" cy="12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8080" y="221760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26000" y="19368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8000" y="1401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6600" y="1320840"/>
            <a:ext cx="1219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752480"/>
            <a:ext cx="6419880" cy="1994040"/>
          </a:xfrm>
          <a:prstGeom prst="rect">
            <a:avLst/>
          </a:prstGeom>
          <a:solidFill>
            <a:srgbClr val="ccffcc">
              <a:alpha val="9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4200" y="2416320"/>
            <a:ext cx="8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6440" y="1190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1160" y="4576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5200" y="549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 yd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13640" y="33498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480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1364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16920" y="2421000"/>
            <a:ext cx="927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4960" y="418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3(16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6440" y="4938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68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0880" y="1933560"/>
            <a:ext cx="4400280" cy="1670040"/>
          </a:xfrm>
          <a:prstGeom prst="parallelogram">
            <a:avLst>
              <a:gd name="adj" fmla="val 43023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3560" y="1962000"/>
            <a:ext cx="0" cy="1640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5360" y="19368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3600" y="13860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24796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680" y="25304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04960" y="418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(1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6440" y="4938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1400" y="1933560"/>
            <a:ext cx="4574880" cy="1930320"/>
          </a:xfrm>
          <a:prstGeom prst="parallelogram">
            <a:avLst>
              <a:gd name="adj" fmla="val 58361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15080" y="1947960"/>
            <a:ext cx="0" cy="190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3240" y="363528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51000" y="14000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7440" y="255276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9160" y="3860640"/>
            <a:ext cx="1290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9:58:55Z</dcterms:created>
  <dc:creator>CCSS</dc:creator>
  <dc:description/>
  <dc:language>en-US</dc:language>
  <cp:lastModifiedBy>damon.skelton</cp:lastModifiedBy>
  <dcterms:modified xsi:type="dcterms:W3CDTF">2004-03-15T20:04:29Z</dcterms:modified>
  <cp:revision>3</cp:revision>
  <dc:subject/>
  <dc:title>No Slide Title</dc:title>
</cp:coreProperties>
</file>